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584-3BF9-49E9-A9F0-0DFE5CA4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1D0-BA65-4A57-908E-AA412DC0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838-45FB-4E3C-BD12-9D16838D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36A-EC91-4666-9A7B-EF8D5479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32A-A608-4851-9D2A-069B00FC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921-87E9-48DF-AF22-D408B695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F85-8676-4D0B-8BAA-022322B9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C4E-9397-4C28-8B95-6A87DD29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5840-384D-49C7-BFDD-56451D01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5D4-269B-4B07-AC41-57575089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27D-F525-4F0C-B9EA-9B1C7EF4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840-8FB4-4AE0-9B96-CB06CC0A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68C6-E2A3-48B6-9143-06190CB11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javascript:this.close(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9/90/Game_of_life_board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9/90/Game_of_life_board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8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rn’s Game of Lif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50288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t Rich or Die T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5467320"/>
            <a:ext cx="22100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e Arca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vid R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istian 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467320"/>
            <a:ext cx="18288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y 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ian Levi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i Sh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371600" y="79200"/>
          <a:ext cx="624852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79200"/>
                    <a:ext cx="624852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jective/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hanc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rcRect l="1814" t="6157" r="1814" b="3511"/>
          <a:stretch/>
        </p:blipFill>
        <p:spPr>
          <a:xfrm>
            <a:off x="4191120" y="1728720"/>
            <a:ext cx="434340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There many factors that determine your amount of savings at retirement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365760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ab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5516640"/>
            <a:ext cx="190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ves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323064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53520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ar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8804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f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49831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mo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72400" y="460224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y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724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72400" y="391644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88620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ivo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41911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37364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ifesty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blem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Real Domino Screenshot"/>
          <p:cNvPicPr/>
          <p:nvPr/>
        </p:nvPicPr>
        <p:blipFill>
          <a:blip r:embed="rId1"/>
          <a:stretch/>
        </p:blipFill>
        <p:spPr>
          <a:xfrm>
            <a:off x="2819520" y="31240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466120" y="0"/>
            <a:ext cx="677880" cy="1219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31543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ai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Model - Input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ri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 of K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festy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retionary Sp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ing Sal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motions/Ra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of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 Lo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tfolio Grow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vings R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x Bra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 dollar amount of savings based on user 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rystal Ball to predict chance of reaching retiremen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cas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Circum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Mode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447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in the wheel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712880"/>
            <a:ext cx="632448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ssible enhancement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luence at bi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urban/Ur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 Rec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oho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Swi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lations between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style – Divorce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ce of being fired – Market Retu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Real Domino Screenshot"/>
          <p:cNvPicPr/>
          <p:nvPr/>
        </p:nvPicPr>
        <p:blipFill>
          <a:blip r:embed="rId1"/>
          <a:stretch/>
        </p:blipFill>
        <p:spPr>
          <a:xfrm>
            <a:off x="6172200" y="32767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l you go bankrupt or amass a fortune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y to find ou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295280" y="2286000"/>
          <a:ext cx="533412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533412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5:43:39Z</dcterms:created>
  <dc:creator>Kobla</dc:creator>
  <dc:description/>
  <dc:language>en-US</dc:language>
  <cp:lastModifiedBy>BLevitan</cp:lastModifiedBy>
  <dcterms:modified xsi:type="dcterms:W3CDTF">2006-05-01T18:04:26Z</dcterms:modified>
  <cp:revision>99</cp:revision>
  <dc:subject/>
  <dc:title>Slide 1</dc:title>
</cp:coreProperties>
</file>